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A8F-1625-406D-B58D-408AE5BB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CC2-5716-45DE-BB66-99F87401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A99-D052-4573-A674-DA1A3705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B67-AAD4-44EE-950C-C919C677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D07C8-D954-4D78-AAFE-393D55AA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D89F7-B8FA-4B6B-AF45-E85AF012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E931E-22B9-46E4-A345-272CBACE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3B24E-055C-401C-9069-84D849B8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AAE19-5D93-4381-92CC-D2E29F52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2DC73-2B3B-411C-94F4-A08BCD47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782B2-51F4-4499-859B-8AD92B65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BFA-7EE7-45ED-9339-F374E23C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ED03C-78B9-4778-81AD-0764AE61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0AD13-A493-4101-99E3-F73FCBEE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18142-4FE4-418E-99A5-0634354D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41ED1-B3E7-448D-A7EB-9E5C75A0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43DC6-1A59-42E0-B79E-D3DE45A4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06B-E3CD-47E9-A1C6-E726ACC1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D8F-7443-4E68-8F03-B69BCB23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5F5-4D40-4A94-BC5C-5159A860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23D-7B03-4504-9F85-B9D61841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A21-D733-451A-8B14-6DEFEEE6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1A0-7B63-4665-AB02-54AE8738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0016-DC80-4626-8FA2-04804666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F73F-38CA-4EF3-BEF0-60B7372B7E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AC93-070F-4255-B0CC-83A923DDEA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3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00" y="5711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5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58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Dissolved Metal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295280"/>
          <a:ext cx="8229600" cy="4953240"/>
        </p:xfrm>
        <a:graphic>
          <a:graphicData uri="http://schemas.openxmlformats.org/drawingml/2006/table">
            <a:tbl>
              <a:tblPr/>
              <a:tblGrid>
                <a:gridCol w="1981080"/>
                <a:gridCol w="3048120"/>
                <a:gridCol w="3200400"/>
              </a:tblGrid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ina mean (ug/L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nnel me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ug/L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26*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&gt;CTR chronic (3.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11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&gt;CTR chronic (3.1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6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2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g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Sediment Metals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295280"/>
          <a:ext cx="8229600" cy="4648320"/>
        </p:xfrm>
        <a:graphic>
          <a:graphicData uri="http://schemas.openxmlformats.org/drawingml/2006/table">
            <a:tbl>
              <a:tblPr/>
              <a:tblGrid>
                <a:gridCol w="1295280"/>
                <a:gridCol w="2210040"/>
                <a:gridCol w="2430360"/>
                <a:gridCol w="2293920"/>
              </a:tblGrid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rina mean (ug/g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nnel mean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ug/g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exceeds ER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4.81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6.2**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ug/g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8.43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.43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55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5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32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6.7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.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.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72*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5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2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whether Cu antifouling boat paints are a significant source of Cu to the water &amp; sediments in marinas and Lower Newport B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metal concentrations in water and sediment in marinas and adjacent channel s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st for toxicity in marinas &amp; channe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Cu Metals Marina Study </a:t>
            </a:r>
            <a:br>
              <a:rPr sz="4000"/>
            </a:b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– Lower Newport Bay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OC Coastkeeper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(Ray Hiemstra)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Santa Ana RWQCB (Linda Candelaria, PhD) </a:t>
            </a:r>
            <a:br>
              <a:rPr sz="3200"/>
            </a:br>
            <a:r>
              <a:rPr b="0" i="1" lang="en-US" sz="3200" spc="-1" strike="noStrike">
                <a:solidFill>
                  <a:srgbClr val="000066"/>
                </a:solidFill>
                <a:latin typeface="Tahoma"/>
              </a:rPr>
              <a:t>City of Newport Beac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152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onclusion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a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issolved Copper only metal above CTR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cute &amp; chronic  (4.8, 3.1 ug/L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biggest source of Cu is boat paints  ~ 60,000 lbs/yr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ost dissolved Cu marina means &amp; half channel means above CT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ean dissolved Cu concentrations mostly above mean channel concentrations (altho not statistically significant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ighest dissolved Cu concentrations in W Newport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o Water Toxicity Fou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onclusions con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Cu, Hg, Zn above ERM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Cu, As, Cd, Cr, Hg, Pb and Zn above ERL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rina means mostly higher than channel means  (statistically significant in 5/8marinas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highest sediment concentrations in W Newport, lowest in Dunes, DeAnz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onclusions cont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Toxicity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diment toxicity found at 8/10 stations tested (6/8 marinas) w/Eohaustori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ore water tests showed reduced %alive altho results were inconclu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ata suggests that Cu boat paints are significant source of Cu to marina waters and sedim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rcRect l="4651" t="0" r="694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 Newport Bay Copper/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Marinas Metals Study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219320" y="1333440"/>
            <a:ext cx="678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whether Cu antifouling boat paints are a significant source of Cu to the water &amp; sediments in marinas and Lower Newport Bay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metal concentrations in water and sediment in marinas and adjacent channel si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termine toxicity in marinas &amp; channe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Methodology -sampl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ollect water and sediment samples throughout Lower Newport B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ites – 8 marinas &amp; adjacent channe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3 stations/marina, 1 station in channel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+ 2 storm drain sites, 1 shipyard si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3 sampling events: May, August, Dece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1 supplemental sampling:  Nove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August –Toxicity analyses on subset of 10 samp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Methodology cont.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Chemical Analysi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Water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– dissolved &amp; total metals,  TSS, DOC, salinity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Sedimen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metal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Aug -additional  -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(10 samples) -PCBs, PAHs, toxicity (water &amp; sed) , sediment TOC, PSA, AVS/SEM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Toxicity Analysis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(10 samples)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-Wate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mussel embryo,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-Sedimen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amphipod (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Eohaustorius),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diment/water interface, pore wat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Result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ater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Only Dissolved Cu above CTR standar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ested Cu, Cd, Cr, Zn, As, Hg, Pb, Ni 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ean dissolved Cu concentrations mostly above mean channel concentr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Result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ediment –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ediment Cu, Hg, Zn above ER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arina means mostly higher than channel mea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4:39:44Z</dcterms:created>
  <dc:creator>Raymond Hiemstra</dc:creator>
  <dc:description/>
  <dc:language>en-US</dc:language>
  <cp:lastModifiedBy>staff</cp:lastModifiedBy>
  <dcterms:modified xsi:type="dcterms:W3CDTF">2008-09-23T18:24:01Z</dcterms:modified>
  <cp:revision>54</cp:revision>
  <dc:subject/>
  <dc:title>Slide 1</dc:title>
</cp:coreProperties>
</file>