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D7A-2177-4FCF-8B29-13B27A49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79B-1379-45C9-A358-92D2FAAD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524-A8B7-4A0E-80B2-8A42850A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63B-70FC-4D26-A88C-4F95748A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6009-8898-474A-8835-E73CDC3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6584-21C5-4025-8BE8-4132580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57F53-FFB5-43BF-A049-05A3926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62D14-8AF1-499A-9E8D-123FDA2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5302-D37E-49A1-B66F-EC91A8D8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A9AD5-45AA-4220-A88B-282C97F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CC7A8-FBBD-427C-B31C-AE479CF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96D-0C2F-496F-B324-C7D8B043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0E09-1E3C-48E5-AC5B-87C0411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688E1-8744-40F2-8B96-3EC84EE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F24CF-1D41-4BEA-B538-1B1DED9F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A7148-4A9C-4E2D-B28E-4510720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754C3-1B8F-4834-AA81-912BFE48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530-F74B-4815-AFBA-63D79108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1F7-2D42-470D-86B5-031FAF26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359-9A7D-44AE-B039-6FCD7ED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C5C-FF0C-4977-B9FA-F86C199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088-434C-4901-8E16-21454BF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985-14E0-4D7D-8059-5C2B341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AC2-68CE-48CF-8FFF-9B882BC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3E0B-946D-4439-A5AD-534AF66F4B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572-7771-46BE-8AA8-3772E81AE5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00" y="5711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Dissolved Metal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295280"/>
          <a:ext cx="8229600" cy="495324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2004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na mean (ug/L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nel me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L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26*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&gt;CTR chronic (3.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1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&gt;CTR chronic (3.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diment Metal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295280"/>
          <a:ext cx="8229600" cy="464832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2430360"/>
                <a:gridCol w="229392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na mean 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nel me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exceeds E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.81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6.2**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8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.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.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7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5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2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whether Cu antifouling boat paints are a significant source of Cu to the water &amp; sediments in marinas and Lower Newport B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metal concentrations in water and sediment in marinas and adjacent channel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st for toxicity in marinas &amp;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Cu Metals Marina Study </a:t>
            </a:r>
            <a:br>
              <a:rPr sz="4000"/>
            </a:b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– Lower Newport Bay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OC Coastkeeper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(Ray Hiemstra)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Santa Ana RWQCB (Linda Candelaria, PhD)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City of Newport Bea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15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ssolved Copper only metal above CTR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ute &amp; chronic  (4.8, 3.1 ug/L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biggest source of Cu is boat paints  ~ 60,000 lbs/yr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st dissolved Cu marina means &amp; half channel means above CT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an dissolved Cu concentrations mostly above mean channel concentrations (altho not statistically significan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ghest dissolved Cu concentrations in W Newpor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 Water Toxicity Fou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 con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Cu, Hg, Zn above ERM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Cu, As, Cd, Cr, Hg, Pb and Zn above ERL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ina means mostly higher than channel means  (statistically significant in 5/8marina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highest sediment concentrations in W Newport, lowest in Dunes, DeAn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 cont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Toxic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toxicity found at 8/10 stations tested (6/8 marinas) w/Eohaustori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re water tests showed reduced %alive altho results were inconclu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ata suggests that Cu boat paints are significant source of Cu to marina waters and sedi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4651" t="0" r="69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Newport Bay Copper/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Marinas Metals Study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1333440"/>
            <a:ext cx="678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whether Cu antifouling boat paints are a significant source of Cu to the water &amp; sediments in marinas and Lower Newport Ba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metal concentrations in water and sediment in marinas and adjacent channel si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toxicity in marinas &amp;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Methodology -sampl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llect water and sediment samples throughout Lower Newport B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ites – 8 marinas &amp; adjacent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3 stations/marina, 1 station in channe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 2 storm drain sites, 1 shipyard s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3 sampling events: May, August, Dec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 supplemental sampling:  Nov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August –Toxicity analyses on subset of 10 sa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ethodology cont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Chemical Analysi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dissolved &amp; total metals,  TSS, DOC, salinity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edi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metal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Aug -additional  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10 samples) -PCBs, PAHs, toxicity (water &amp; sed) , sediment TOC, PSA, AVS/SEM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Toxicity Analysis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10 samples)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-Wate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mussel embryo,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-Sedi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amphipod (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Eohaustorius),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diment/water interface, pore wa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ter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ly Dissolved Cu above CTR stand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ested Cu, Cd, Cr, Zn, As, Hg, Pb, Ni 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ean dissolved Cu concentrations mostly above mean channel concentr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diment –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diment Cu, Hg, Zn above ER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ina means mostly higher than channel me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4:39:44Z</dcterms:created>
  <dc:creator>Raymond Hiemstra</dc:creator>
  <dc:description/>
  <dc:language>en-US</dc:language>
  <cp:lastModifiedBy>staff</cp:lastModifiedBy>
  <dcterms:modified xsi:type="dcterms:W3CDTF">2008-09-23T18:24:01Z</dcterms:modified>
  <cp:revision>54</cp:revision>
  <dc:subject/>
  <dc:title>Slide 1</dc:title>
</cp:coreProperties>
</file>